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770A-5ED8-4868-9C1D-0A5F02BC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E9D-A630-46BA-B22D-F64FB8D499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D39-D9EA-4418-BE60-72B15A3F56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C475-9CA3-4893-B623-69A8C34583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11B5-B259-4409-8A27-B16B98D25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47C5-46FC-4C12-AB75-9D9C2164D3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5C9-2A9B-45AC-AE20-4252E5B3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563-FD22-42DD-B074-592BECA9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D63-8A08-4B45-9D89-3DEEEE0D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D80-38D3-477B-ADDF-640E937A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759F-A7ED-4CE8-8917-5DC600B3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FEE7-F742-4E85-A89B-A7E018A1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EA6A-920D-4F93-8C2E-E693F329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C068-E1A1-4478-A2D0-A1DA07D4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1F1B-038A-4867-9E17-29D0AEC6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A398-40B9-4A76-8735-5632E1C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7F5E-0515-4C3E-ACA4-EAA068D7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A77-A45A-45CD-B812-41ADE3FF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B3BE-BC52-4D1A-AB0A-DF79CA1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6A42-0DE9-4866-9E48-D61C5089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52A-52FD-4DE4-B2A6-D3186DC0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078F-B9FD-41D8-8AC1-3911AF22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23B9-49EB-441F-99DA-1D2229B4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77E-C0AC-4BB8-AAEC-12C4EBE9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45E-FDA0-45EF-AD01-3AD2FB07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736-6DB3-4691-A6C4-F1780186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77E-443A-4435-BAA2-3C8FAF70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73B-C16C-4A49-AEA3-9801D65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BB1-DA38-43DF-A5E1-7B98449B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987-2955-49AA-AB87-4BD6EECD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6D7C-DB6D-4D98-85CC-6D90F407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A9DE-EE9A-4A36-93E3-0F507E2DF7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AVING MONEY ONQ #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When you save money, is the interest usually LOW or HIG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8120" y="3208320"/>
            <a:ext cx="2971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77840"/>
            <a:ext cx="9144000" cy="39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What is arguably the most important financial rule that we will talk about in personal finance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5124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60" y="423360"/>
            <a:ext cx="8763120" cy="21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You save money for ___ ____ goals and invest money for ___ ____ go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85800" y="2922480"/>
            <a:ext cx="3133800" cy="3133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76920" y="3270240"/>
            <a:ext cx="3255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9824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Money that is saved for ___________ should be easily and readily accessibl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218124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609840"/>
            <a:ext cx="914400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What is the most crucial part in deciding whether money should be saved or invested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2180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23T12:35:43Z</dcterms:modified>
  <cp:revision>151</cp:revision>
  <dc:subject/>
  <dc:title>D/O: TO EXPLAIN AND IDENTIFY PROBLEMS OF ECONOMICS</dc:title>
</cp:coreProperties>
</file>